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CFD7-F20D-43B1-80CC-8C8D1C67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BA4E-0BD1-45B5-B87E-F370F43A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3879-EB7C-4378-AE38-CDB06E5F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42D5-3BCD-4E12-A106-31453BC8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3162-070C-41FF-AB14-E404C8A9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869-9C20-44BA-9C2E-8CABEE95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0B80-153F-4E98-AACE-70575D14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F6F-7558-4CB9-96B3-1BEEC8C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DCA6-720A-4AB5-87A2-6A57161D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AEA-D025-4F30-9CC5-5D0382E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FE5-765A-44CA-8F4F-4453606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066C-D129-464D-9A22-5521660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44D-58F2-4451-95D8-D09796F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A801-A4E2-45FD-93E6-CAE1154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F6A-551F-4DDC-821F-AB97CBD6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1DEB-3D03-486B-873C-193EE700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AA4-22B0-479B-9B30-69D6E503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21C9-25AA-4EB1-BE9B-F8E6DC80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9B03-AE48-45C7-8520-54408BB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8DA5-4B05-4F55-962E-400EFF7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413E-E3CE-42B2-BC37-65B81F0B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60B9-231D-48B0-BA6D-9C69837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A77C-3A21-457D-8D07-B60C935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C2F0-9F84-43EE-848E-CFD6955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B06-17BB-4614-A25E-2F874DC77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011-A317-4FF8-BB64-763F1ACC7D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37: The Cold War Begin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5-19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ited States &amp; Soviet Un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didn’t recognize Bolshevik government until 193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skeptical to open up second front against Germany (Soviet Union paid price to get Nazis out of Russi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froze Soviets out of development of atomic bom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ited States &amp; Soviet Un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visions of post-war wor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lin wanted to maintain extensive Soviet sphere of influence in Eastern &amp; Central Eur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shes w/ US idea of “open world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&amp; USSR resembled each 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olated from world affairs prior to WW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litical doctrines w/ revolutionary orig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iance of necessity until mutual enemy cru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ic America vs. Communist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nse standoff resul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ping Postwar Worl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ld Bank &amp; International Monetary Fu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ed Nations Confer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DR sent both Republicans &amp; Democra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ed Security Council &amp; Assemb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whelmingly approved by Sen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ot of initial su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57800" y="4438800"/>
            <a:ext cx="24192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blem of Germa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uremberg War Crimes Tr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nished Nazi leaders for war cr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usations: crimes against laws of war &amp; huma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 of accused Nazis were sent to gall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 sentenced to long-term jail terms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ies disagreed on what to do w/ German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52680" y="4811760"/>
            <a:ext cx="26672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blem of Germa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rmany divided into two occupation z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st Germany: controlled by Western democra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st Germany: controlled by communist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ron Curtain”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vided Europe into east &amp; west; secrecy of Stalin in Eastern Eur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rlin- symbolized issues between US &amp; USS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erlin Blockad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SR blocked western access to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erlin Airlif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 flew in supplies to west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91280" y="0"/>
            <a:ext cx="2952720" cy="2809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2954160" cy="358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438280" y="2941560"/>
            <a:ext cx="48769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ystallizing the Cold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tainment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 the spread of communism abr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ssia was relentlessly expansiona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ruman Doctrin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tated that US would support Greece &amp; Turkey w/ economic &amp; military aid to prevent their falling to commu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arshall Plan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gave monetary support to help European economies after WW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vent spread of communism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recognizes state of Israel, 194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99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erica Begins to Rea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ational Security Ac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1947- created Department of Defense, National Security Council &amp; 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gress resurrected military d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rth Atlantic Treaty Organizatio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94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itain, France, Belgium, United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ised to regard an attack on one as attack on 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parture from US conven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p for militarization of Cold W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uropean unific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ap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nstruction in Japan was simp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cupying American army under Douglas MacArthu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 Japanese “war criminals” were hung or sent to pri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panese cooperated w/ Americ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opted MacArthur-dictated constit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nounced militar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stern-style democra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enomenal economic reco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war Economic Anxieti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ft-Hartley Ac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mployment Ac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ade it government policy to “promote maximum employment, production and purchasing power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I Bill of Rights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ka GI Bi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r that economy couldn’t support 15 million men returning from w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ous provisions for sending soldiers to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- (Veterans Administration) guaranteed loans for veterans to buy homes, farms &amp; small business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19920" y="2057400"/>
            <a:ext cx="132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olution in As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vil war in China: nationalists vs. commun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sts victorio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eat for America in Cold War- 500 million people in China swept into communist cam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rms rac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49- USSR explodes atomic bom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uman orders development of the “H-Bomb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ly after, USSR exploders their h-bomb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clear superiority becomes go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side tries to outdo other w/ building destructive weap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34320" y="3836880"/>
            <a:ext cx="22096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eged Communist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7- Truman launches “loyalty program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employees’ loyalty investig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9- 11 communists brought before jury for violating the Smith Act of 19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peacetime antisedition law since 179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victed of advocating the overthrow of US government by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held by Supreme Court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nnis v. United St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466040" y="0"/>
            <a:ext cx="167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eged Commu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mmittee on Un-American Activ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HUAC)- investigated sub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chard Nixon and Joseph McCarth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ger Hi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” hunt turned into witch hu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vetoed McCarran Internal Security Bill (authorized president to arrest &amp; detain suspicious people); passed anyway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ius &amp; Ethel Rosenberg- only people ever executed in peacetime for espiona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8288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3592440"/>
            <a:ext cx="6172200" cy="297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733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4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s had control of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: Thomas E. Dew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: Harry Tru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position by southern Democrats, split party (civil right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xiecrats” nominated J. Strom Thurmo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Progressive party: Henry A. Wal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wi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, workers, black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4537080"/>
            <a:ext cx="28195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uman’s First 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int Four Program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end U.S. money &amp; aid to underdeveloped lands to help them help themsel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air Deal Program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mproved housing, full employment, higher minimum wage, extension of Social Secu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ed some oppos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 Begi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9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WWII, Korea divided at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: south of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SR: north of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rth Korean army breached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rallel, drove South Korea backw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inment doctrine- communist aggre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d to expansion of US military, beyond what was necessary for Ko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SC-68: major step in militarization of US foreign poli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9932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 Beg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ed Nations Security Council declares North Korea as an aggress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 called on US to restore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(w/o consulting congress) sent US air &amp; naval units to support South Ko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 MacArthur’s troops in Japan to Ko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1911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Boom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economy sur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s (6% of world’s people) enjoying 40% of world’s 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American consumerism (By 1950s, 90% of Americans owned TV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oyment opportunities for women r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traditional feminine roles glorifi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1940 - Philco 5in TV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cArthur launched amphibious landing behind enemy lines w/ su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rth Korea had scrambled back behind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’s avowed intention: restore South Korea to its former bor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th Koreans had already crossed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st China warned that they would not sit idly as hostile groups approached Chinese/Korean bord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nese attacked &amp; pushed forces b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lemate @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Arthur favored an attack on Ch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 (not Asia) was US first conc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Arthur removed from command: April 11, 195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505320" y="4417920"/>
            <a:ext cx="29908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war Prospe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itary bud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ap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ers increased productiv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0% of country’s youth in school by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ift out of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ductivity gains unmatched by any other sect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 farm fades away, giant agribusiness 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zation &amp; new fertiliz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nbe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tion re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nbelt=15 state area from Virgini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rid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X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ifor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d pop. at a rate double of industrial zones in Northe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bs, better climate, lower tax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ke historic grip of the North on the nation’s political lif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ush to the Suburb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fled to subu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economically attractive to own a home in suburbs than to rent apt. in 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out of 4 Americans lived on subu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vitt Brothers- “Levittow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fligh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62720" y="3983040"/>
            <a:ext cx="35812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by Boo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 in birth rate after 19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llion babies by the end of 1950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n effect on econom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ary school enroll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ned food &amp; baby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enagers: clothes &amp; rock musi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um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al presiden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president in many yrs. without college de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ility turned into cocki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ly loyal to his frien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440" y="2819520"/>
            <a:ext cx="3049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alta Con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19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g Th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re-establishment of war-torn Eur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land should have representative govern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lgaria &amp; Romania to have free el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ted N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lin agrees to attack Japan within 3 months after collapse of German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File:Yalta summit 1945 with Churchill, Roosevelt, Stalin.jpg"/>
          <p:cNvPicPr/>
          <p:nvPr/>
        </p:nvPicPr>
        <p:blipFill>
          <a:blip r:embed="rId1"/>
          <a:stretch/>
        </p:blipFill>
        <p:spPr>
          <a:xfrm>
            <a:off x="6629400" y="826920"/>
            <a:ext cx="251460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8:57:52Z</dcterms:created>
  <dc:creator>emily.johnson</dc:creator>
  <dc:description/>
  <dc:language>en-US</dc:language>
  <cp:lastModifiedBy>emily.johnson</cp:lastModifiedBy>
  <dcterms:modified xsi:type="dcterms:W3CDTF">2013-04-09T17:18:32Z</dcterms:modified>
  <cp:revision>10</cp:revision>
  <dc:subject/>
  <dc:title>Chapter 37: The Cold War Begins </dc:title>
</cp:coreProperties>
</file>